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E475-13F0-4E5F-8C14-EE9E03ED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1A5-B90E-46B8-93F1-3442AB06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1BC-F415-4975-A0E0-02EA1947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2CA-0945-4E32-9419-DB795959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9493-15C1-4AB0-8EAC-74786AC8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5E51-0DFF-461F-9F44-01797FBE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88DB-0977-4F52-A709-D821A56E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3F15-3352-4ECF-B20F-6C8FFA97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BBC7-309C-4AA9-A12B-EB20CA85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D2D5-3010-40DA-9F94-7BB8A20B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D559-9045-4A9F-AE67-6E5B5747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F76C-EAE9-47DB-84B7-4464A508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F620-B241-4211-90C2-2963DE08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00C5-B76E-4E02-84B3-DBA2A282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9A1E-EDA7-448E-8F0A-C8D07A0C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7F9A-4037-4E5E-9293-5D2293771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3EDF-06A6-445A-9890-23320AB4D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ECA2-9F7E-4A39-A732-CA64ED08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4947-3D79-44FF-B78E-4F9F4BEC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218-1820-4F10-B3F2-6A6EFD23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6233-4F03-4C3F-9C8D-A30CA7D2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C5B-BA31-4856-BA44-5FBA09B8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38EB-13C7-4DC7-8A45-850B9150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4926-D472-43BD-A895-A7198CED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6786-AB3D-485D-977B-2FDECF8E2E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E4F0-E87F-4264-9407-95BDC6CEBD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bardalzo.narod.ru/4/kit_alf.html" TargetMode="External"/><Relationship Id="rId2" Type="http://schemas.openxmlformats.org/officeDocument/2006/relationships/hyperlink" Target="http://rbardalzo.narod.ru/4/kit_alf.html" TargetMode="External"/><Relationship Id="rId3" Type="http://schemas.openxmlformats.org/officeDocument/2006/relationships/hyperlink" Target="http://rbardalzo.narod.ru/4/kit_alf.html" TargetMode="External"/><Relationship Id="rId4" Type="http://schemas.openxmlformats.org/officeDocument/2006/relationships/hyperlink" Target="http://rbardalzo.narod.ru/4/kit_alf.html" TargetMode="External"/><Relationship Id="rId5" Type="http://schemas.openxmlformats.org/officeDocument/2006/relationships/hyperlink" Target="http://rbardalzo.narod.ru/4/kit_alf.html" TargetMode="External"/><Relationship Id="rId6" Type="http://schemas.openxmlformats.org/officeDocument/2006/relationships/hyperlink" Target="http://rbardalzo.narod.ru/4/kit_alf.html" TargetMode="External"/><Relationship Id="rId7" Type="http://schemas.openxmlformats.org/officeDocument/2006/relationships/hyperlink" Target="http://rbardalzo.narod.ru/4/kit_alf.html" TargetMode="External"/><Relationship Id="rId8" Type="http://schemas.openxmlformats.org/officeDocument/2006/relationships/hyperlink" Target="http://rbardalzo.narod.ru/4/kit_alf.html" TargetMode="External"/><Relationship Id="rId9" Type="http://schemas.openxmlformats.org/officeDocument/2006/relationships/hyperlink" Target="http://rbardalzo.narod.ru/4/kit_alf.html" TargetMode="External"/><Relationship Id="rId10" Type="http://schemas.openxmlformats.org/officeDocument/2006/relationships/hyperlink" Target="http://rbardalzo.narod.ru/4/kit_alf.html" TargetMode="External"/><Relationship Id="rId11" Type="http://schemas.openxmlformats.org/officeDocument/2006/relationships/hyperlink" Target="http://rbardalzo.narod.ru/4/kit_alf.html" TargetMode="External"/><Relationship Id="rId12" Type="http://schemas.openxmlformats.org/officeDocument/2006/relationships/hyperlink" Target="http://rbardalzo.narod.ru/4/kit_alf.html" TargetMode="External"/><Relationship Id="rId13" Type="http://schemas.openxmlformats.org/officeDocument/2006/relationships/hyperlink" Target="http://rbardalzo.narod.ru/4/kit_alf.html" TargetMode="External"/><Relationship Id="rId14" Type="http://schemas.openxmlformats.org/officeDocument/2006/relationships/hyperlink" Target="http://britovka.ucoz.ua/" TargetMode="External"/><Relationship Id="rId15" Type="http://schemas.openxmlformats.org/officeDocument/2006/relationships/hyperlink" Target="http://britovka.ucoz.ua/" TargetMode="External"/><Relationship Id="rId16" Type="http://schemas.openxmlformats.org/officeDocument/2006/relationships/hyperlink" Target="http://britovka.ucoz.ua/" TargetMode="External"/><Relationship Id="rId17" Type="http://schemas.openxmlformats.org/officeDocument/2006/relationships/hyperlink" Target="http://britovka.ucoz.ua/" TargetMode="External"/><Relationship Id="rId18" Type="http://schemas.openxmlformats.org/officeDocument/2006/relationships/hyperlink" Target="http://britovka.ucoz.ua/" TargetMode="External"/><Relationship Id="rId19" Type="http://schemas.openxmlformats.org/officeDocument/2006/relationships/hyperlink" Target="http://britovka.ucoz.ua/" TargetMode="External"/><Relationship Id="rId20" Type="http://schemas.openxmlformats.org/officeDocument/2006/relationships/hyperlink" Target="http://britovka.ucoz.ua/" TargetMode="External"/><Relationship Id="rId21" Type="http://schemas.openxmlformats.org/officeDocument/2006/relationships/hyperlink" Target="http://scripts.garshin.ru/brahmi/north-indian.html" TargetMode="External"/><Relationship Id="rId22" Type="http://schemas.openxmlformats.org/officeDocument/2006/relationships/hyperlink" Target="http://scripts.garshin.ru/brahmi/north-indian.html" TargetMode="External"/><Relationship Id="rId23" Type="http://schemas.openxmlformats.org/officeDocument/2006/relationships/hyperlink" Target="http://scripts.garshin.ru/brahmi/north-indian.html" TargetMode="External"/><Relationship Id="rId24" Type="http://schemas.openxmlformats.org/officeDocument/2006/relationships/hyperlink" Target="http://scripts.garshin.ru/brahmi/north-indian.html" TargetMode="External"/><Relationship Id="rId25" Type="http://schemas.openxmlformats.org/officeDocument/2006/relationships/hyperlink" Target="http://scripts.garshin.ru/brahmi/north-indian.html" TargetMode="External"/><Relationship Id="rId26" Type="http://schemas.openxmlformats.org/officeDocument/2006/relationships/hyperlink" Target="http://scripts.garshin.ru/brahmi/north-indian.html" TargetMode="External"/><Relationship Id="rId27" Type="http://schemas.openxmlformats.org/officeDocument/2006/relationships/hyperlink" Target="http://scripts.garshin.ru/brahmi/north-indian.html" TargetMode="External"/><Relationship Id="rId28" Type="http://schemas.openxmlformats.org/officeDocument/2006/relationships/hyperlink" Target="http://scripts.garshin.ru/brahmi/north-indian.html" TargetMode="External"/><Relationship Id="rId29" Type="http://schemas.openxmlformats.org/officeDocument/2006/relationships/hyperlink" Target="http://scripts.garshin.ru/brahmi/north-indian.html" TargetMode="External"/><Relationship Id="rId30" Type="http://schemas.openxmlformats.org/officeDocument/2006/relationships/hyperlink" Target="http://scripts.garshin.ru/brahmi/north-indian.html" TargetMode="External"/><Relationship Id="rId31" Type="http://schemas.openxmlformats.org/officeDocument/2006/relationships/hyperlink" Target="http://scripts.garshin.ru/brahmi/north-indian.html" TargetMode="External"/><Relationship Id="rId32" Type="http://schemas.openxmlformats.org/officeDocument/2006/relationships/hyperlink" Target="http://scripts.garshin.ru/brahmi/north-indian.html" TargetMode="External"/><Relationship Id="rId33" Type="http://schemas.openxmlformats.org/officeDocument/2006/relationships/hyperlink" Target="http://scripts.garshin.ru/brahmi/north-indian.html" TargetMode="External"/><Relationship Id="rId34" Type="http://schemas.openxmlformats.org/officeDocument/2006/relationships/hyperlink" Target="http://scripts.garshin.ru/brahmi/north-indian.html" TargetMode="External"/><Relationship Id="rId35" Type="http://schemas.openxmlformats.org/officeDocument/2006/relationships/hyperlink" Target="http://scripts.garshin.ru/brahmi/north-indian.html" TargetMode="External"/><Relationship Id="rId36" Type="http://schemas.openxmlformats.org/officeDocument/2006/relationships/hyperlink" Target="http://www.koreamuseum.ru/key.html" TargetMode="External"/><Relationship Id="rId37" Type="http://schemas.openxmlformats.org/officeDocument/2006/relationships/hyperlink" Target="http://www.koreamuseum.ru/key.html" TargetMode="External"/><Relationship Id="rId38" Type="http://schemas.openxmlformats.org/officeDocument/2006/relationships/hyperlink" Target="http://www.koreamuseum.ru/key.html" TargetMode="External"/><Relationship Id="rId39" Type="http://schemas.openxmlformats.org/officeDocument/2006/relationships/hyperlink" Target="http://www.koreamuseum.ru/key.html" TargetMode="External"/><Relationship Id="rId4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Звуковая и идеографическая письменность в компьютер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ставил Орлов Стас,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ченик 6 б класс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ставка, Символ, </a:t>
            </a:r>
            <a:br>
              <a:rPr sz="3600"/>
            </a:b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Другие символ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1341360" y="1554120"/>
            <a:ext cx="703440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ывод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бор текстов на компьютере в любой из письменностей возможен тремя способа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нием специальной клавиатуры, позволяющей вводить как буквы, так и иероглиф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рез меню Вставка / Симво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использованием виртуальной клавиатуры на сайтах в Интерне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итерату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акин И.Г. Залогова Л.А. Русаков С. В. Шестакова Л. В. Информатика и информационно-коммуникационные технологии. Базовый курс: Учебник для 8 класса/ М.:БИНОМ. Лаборатория знаний,200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://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3"/>
              </a:rPr>
              <a:t>rbardalzo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Verdana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5"/>
              </a:rPr>
              <a:t>narod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Verdana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7"/>
              </a:rPr>
              <a:t>ru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Verdana"/>
                <a:hlinkClick r:id="rId8"/>
              </a:rPr>
              <a:t>/4/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9"/>
              </a:rPr>
              <a:t>kit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Verdana"/>
                <a:hlinkClick r:id="rId10"/>
              </a:rPr>
              <a:t>_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11"/>
              </a:rPr>
              <a:t>alf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Verdana"/>
                <a:hlinkClick r:id="rId12"/>
              </a:rPr>
              <a:t>.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13"/>
              </a:rPr>
              <a:t>htm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итайские алфавиты. Саморазрушение иероглиф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14"/>
              </a:rPr>
              <a:t>http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Verdana"/>
                <a:hlinkClick r:id="rId15"/>
              </a:rPr>
              <a:t>://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16"/>
              </a:rPr>
              <a:t>britovka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Verdana"/>
                <a:hlinkClick r:id="rId17"/>
              </a:rPr>
              <a:t>.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18"/>
              </a:rPr>
              <a:t>ucoz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Verdana"/>
                <a:hlinkClick r:id="rId19"/>
              </a:rPr>
              <a:t>.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20"/>
              </a:rPr>
              <a:t>u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я родина – Бритов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21"/>
              </a:rPr>
              <a:t>http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Verdana"/>
                <a:hlinkClick r:id="rId22"/>
              </a:rPr>
              <a:t>://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23"/>
              </a:rPr>
              <a:t>scripts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Verdana"/>
                <a:hlinkClick r:id="rId24"/>
              </a:rPr>
              <a:t>.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25"/>
              </a:rPr>
              <a:t>garshin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Verdana"/>
                <a:hlinkClick r:id="rId26"/>
              </a:rPr>
              <a:t>.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27"/>
              </a:rPr>
              <a:t>ru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Verdana"/>
                <a:hlinkClick r:id="rId28"/>
              </a:rPr>
              <a:t>/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29"/>
              </a:rPr>
              <a:t>brahmi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Verdana"/>
                <a:hlinkClick r:id="rId30"/>
              </a:rPr>
              <a:t>/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31"/>
              </a:rPr>
              <a:t>north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Verdana"/>
                <a:hlinkClick r:id="rId32"/>
              </a:rPr>
              <a:t>-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33"/>
              </a:rPr>
              <a:t>indian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Verdana"/>
                <a:hlinkClick r:id="rId34"/>
              </a:rPr>
              <a:t>.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35"/>
              </a:rPr>
              <a:t>html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айт Игоря Гаршина. Североиндийская группа письменностей [гуптская, "индоарийская"]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36"/>
              </a:rPr>
              <a:t>http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Verdana"/>
                <a:hlinkClick r:id="rId37"/>
              </a:rPr>
              <a:t>://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Verdana"/>
                <a:hlinkClick r:id="rId38"/>
              </a:rPr>
              <a:t>www</a:t>
            </a:r>
            <a:r>
              <a:rPr b="0" lang="ru-RU" sz="2000" spc="-1" strike="noStrike" u="sng">
                <a:solidFill>
                  <a:srgbClr val="006666"/>
                </a:solidFill>
                <a:uFillTx/>
                <a:latin typeface="Verdana"/>
                <a:hlinkClick r:id="rId39"/>
              </a:rPr>
              <a:t>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koreamuseum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u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key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htm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отиворечи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3" name="Содержимое 3" descr=""/>
          <p:cNvPicPr/>
          <p:nvPr/>
        </p:nvPicPr>
        <p:blipFill>
          <a:blip r:embed="rId1"/>
          <a:stretch/>
        </p:blipFill>
        <p:spPr>
          <a:xfrm>
            <a:off x="1352520" y="1792440"/>
            <a:ext cx="7353360" cy="41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облем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сть ли различие между клавиатурой для набора текстов, использующих звуковую и идеографическую письменность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ак используя клавиатуру можно набирать тексты иероглифам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369800" y="357120"/>
            <a:ext cx="7559640" cy="558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c7777"/>
                </a:solidFill>
                <a:latin typeface="Verdana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ь возможность ввода в компьютер текстов, написанных иероглиф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c7777"/>
                </a:solidFill>
                <a:latin typeface="Verdana"/>
              </a:rPr>
              <a:t>Задачи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ь, что такое звуковая и идеографическая письмен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йти информацию о клавиатурах для идеографической письмен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ь, возможность выставление языков, использующих идеографическую письменность, на школьном компьюте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Звуковая и идеографическая письменност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Рисунок 7" descr="Безымянный.bmp"/>
          <p:cNvPicPr/>
          <p:nvPr/>
        </p:nvPicPr>
        <p:blipFill>
          <a:blip r:embed="rId1"/>
          <a:stretch/>
        </p:blipFill>
        <p:spPr>
          <a:xfrm>
            <a:off x="1857240" y="1714680"/>
            <a:ext cx="57150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лавиатура в Кита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Рисунок 1" descr="http://britovka.ucoz.ua/_pu/0/73486.jpg"/>
          <p:cNvPicPr/>
          <p:nvPr/>
        </p:nvPicPr>
        <p:blipFill>
          <a:blip r:embed="rId1"/>
          <a:stretch/>
        </p:blipFill>
        <p:spPr>
          <a:xfrm>
            <a:off x="928800" y="1714680"/>
            <a:ext cx="742932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лавиатура в Кита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Рисунок 3" descr="http://britovka.ucoz.ua/_pu/0/68292.jpg"/>
          <p:cNvPicPr/>
          <p:nvPr/>
        </p:nvPicPr>
        <p:blipFill>
          <a:blip r:embed="rId1"/>
          <a:srcRect l="0" t="-7124" r="0" b="-7379"/>
          <a:stretch/>
        </p:blipFill>
        <p:spPr>
          <a:xfrm>
            <a:off x="1785960" y="1571760"/>
            <a:ext cx="55008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Виртуальная клавиату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Picture 2" descr="\\C07\документы\1.bmp"/>
          <p:cNvPicPr/>
          <p:nvPr/>
        </p:nvPicPr>
        <p:blipFill>
          <a:blip r:embed="rId1"/>
          <a:stretch/>
        </p:blipFill>
        <p:spPr>
          <a:xfrm>
            <a:off x="1928880" y="1638360"/>
            <a:ext cx="5643360" cy="47689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4" descr="2.gif"/>
          <p:cNvPicPr/>
          <p:nvPr/>
        </p:nvPicPr>
        <p:blipFill>
          <a:blip r:embed="rId2"/>
          <a:srcRect l="1684" t="14817" r="91587" b="77249"/>
          <a:stretch/>
        </p:blipFill>
        <p:spPr>
          <a:xfrm>
            <a:off x="2071800" y="2357280"/>
            <a:ext cx="500040" cy="5004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5" descr="3.gif"/>
          <p:cNvPicPr/>
          <p:nvPr/>
        </p:nvPicPr>
        <p:blipFill>
          <a:blip r:embed="rId3"/>
          <a:srcRect l="1579" t="14556" r="88778" b="78586"/>
          <a:stretch/>
        </p:blipFill>
        <p:spPr>
          <a:xfrm>
            <a:off x="2071800" y="2357280"/>
            <a:ext cx="714240" cy="4287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8" descr="5.gif"/>
          <p:cNvPicPr/>
          <p:nvPr/>
        </p:nvPicPr>
        <p:blipFill>
          <a:blip r:embed="rId4"/>
          <a:srcRect l="1527" t="15476" r="86232" b="79983"/>
          <a:stretch/>
        </p:blipFill>
        <p:spPr>
          <a:xfrm>
            <a:off x="2071800" y="2357280"/>
            <a:ext cx="100008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бор иероглифов на русской клавиатур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обавление китайского языка на языковую панел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ерез меню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Вставка / Симво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8:50:56Z</dcterms:created>
  <dc:creator>c07</dc:creator>
  <dc:description/>
  <dc:language>en-US</dc:language>
  <cp:lastModifiedBy>Teach</cp:lastModifiedBy>
  <dcterms:modified xsi:type="dcterms:W3CDTF">2010-01-28T09:21:31Z</dcterms:modified>
  <cp:revision>22</cp:revision>
  <dc:subject/>
  <dc:title>Звуковая и идеографическая письменность в компьютере</dc:title>
</cp:coreProperties>
</file>